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FA60-E6A8-499D-B1EC-7C1D50E5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BC3-AA0C-4730-8F3D-9A0BE601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7A5-A826-489E-A602-1C6CDFA0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7B3-831E-4480-AD29-9841DEA2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DFE-07B2-4977-A904-36F08F49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684-0B04-4CC5-9604-9AF9F7B7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22E-D78C-4162-BFF6-E0E09EB0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9D8-5BE4-4E3F-907E-938E47D8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DCB-F988-455A-9F70-C362DAD6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018-CA39-4585-A89C-36676794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DB7-06EB-4531-A19E-ADC0D207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03C-AC5C-4440-AA18-85CB5C7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9C36-8B19-4802-A80C-29AF0437DB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9EE-9976-4074-8961-1890EDB2A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181480" cy="412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XR data(dppcxr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R fitting(dppcxr.par) and density profi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38760" y="3430440"/>
            <a:ext cx="4305240" cy="34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49B-0869-4647-9807-DBDC5F2971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57AAE-3ED7-401C-9E91-21143944D7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952880" cy="394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GIXOS data(dppcgixos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xos calculated from XR fitting parameters (Dppcgixos1.par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625-F01A-4402-A7EF-4C9D3CC3C43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0E5FD-8068-496C-9B8C-EED350245E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248520" cy="460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XR data(dppcxr.rrf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d GIXOS data(dppcgix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B0B-9385-4631-9998-190D39DB7BD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3C263-C127-4097-BA72-5347AED734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DA3-59E9-4C48-A37A-E24BA2B84D8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8A69A-91F0-4012-9647-B4C2E3300D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976-DEA6-46EE-92DC-B95BC829F68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28A44-D324-4D53-B786-5EA3735A52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21T21:49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